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C956-A529-414A-A92D-001741F702B1}" type="slidenum"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33C4-E09B-46E9-81A3-71302A46B5C6}" type="slidenum">
              <a:rPr b="0" lang="sr-CS" sz="1200" spc="-1" strike="noStrike">
                <a:solidFill>
                  <a:srgbClr val="003d6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2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77724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0320" y="4111560"/>
            <a:ext cx="77724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0320" y="411156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3000" y="411156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8320" y="177300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5960" y="177300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0320" y="411156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8320" y="411156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5960" y="411156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60320" y="177300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75564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0320" y="411156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0320" y="177300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3000" y="411156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60320" y="4111560"/>
            <a:ext cx="77724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77724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60320" y="4111560"/>
            <a:ext cx="77724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60320" y="411156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3000" y="411156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88320" y="177300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15960" y="177300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60320" y="411156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88320" y="411156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15960" y="4111560"/>
            <a:ext cx="2502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0320" y="411156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3000" y="411156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032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3000" y="1773000"/>
            <a:ext cx="37926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0320" y="4111560"/>
            <a:ext cx="77724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58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81a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grpSp>
        <p:nvGrpSpPr>
          <p:cNvPr id="1" name="Group 59"/>
          <p:cNvGrpSpPr/>
          <p:nvPr/>
        </p:nvGrpSpPr>
        <p:grpSpPr>
          <a:xfrm>
            <a:off x="414360" y="1415880"/>
            <a:ext cx="1784160" cy="2324160"/>
            <a:chOff x="414360" y="1415880"/>
            <a:chExt cx="1784160" cy="2324160"/>
          </a:xfrm>
        </p:grpSpPr>
        <p:sp>
          <p:nvSpPr>
            <p:cNvPr id="2" name="Line 60"/>
            <p:cNvSpPr/>
            <p:nvPr/>
          </p:nvSpPr>
          <p:spPr>
            <a:xfrm flipH="1">
              <a:off x="414360" y="1513440"/>
              <a:ext cx="1784160" cy="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sp>
          <p:nvSpPr>
            <p:cNvPr id="3" name="Line 61"/>
            <p:cNvSpPr/>
            <p:nvPr/>
          </p:nvSpPr>
          <p:spPr>
            <a:xfrm>
              <a:off x="608400" y="1419120"/>
              <a:ext cx="0" cy="232092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sp>
          <p:nvSpPr>
            <p:cNvPr id="4" name="Arc 62"/>
            <p:cNvSpPr/>
            <p:nvPr/>
          </p:nvSpPr>
          <p:spPr>
            <a:xfrm flipH="1">
              <a:off x="511920" y="1415880"/>
              <a:ext cx="192960" cy="192960"/>
            </a:xfrm>
            <a:custGeom>
              <a:avLst/>
              <a:gdLst/>
              <a:ahLst/>
              <a:rect l="l" t="t" r="r" b="b"/>
              <a:pathLst>
                <a:path fill="none" w="43195" h="43200">
                  <a:moveTo>
                    <a:pt x="21114" y="5"/>
                  </a:moveTo>
                  <a:cubicBezTo>
                    <a:pt x="21274" y="1"/>
                    <a:pt x="2143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  <a:cubicBezTo>
                    <a:pt x="43195" y="33529"/>
                    <a:pt x="33524" y="43200"/>
                    <a:pt x="21595" y="43200"/>
                  </a:cubicBezTo>
                  <a:cubicBezTo>
                    <a:pt x="9843" y="43200"/>
                    <a:pt x="247" y="33805"/>
                    <a:pt x="-1" y="22056"/>
                  </a:cubicBezTo>
                </a:path>
                <a:path stroke="0" w="43195" h="43200">
                  <a:moveTo>
                    <a:pt x="21114" y="5"/>
                  </a:moveTo>
                  <a:cubicBezTo>
                    <a:pt x="21274" y="1"/>
                    <a:pt x="2143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  <a:cubicBezTo>
                    <a:pt x="43195" y="33529"/>
                    <a:pt x="33524" y="43200"/>
                    <a:pt x="21595" y="43200"/>
                  </a:cubicBezTo>
                  <a:cubicBezTo>
                    <a:pt x="9843" y="43200"/>
                    <a:pt x="247" y="33805"/>
                    <a:pt x="-1" y="22056"/>
                  </a:cubicBezTo>
                  <a:lnTo>
                    <a:pt x="21595" y="21600"/>
                  </a:lnTo>
                  <a:lnTo>
                    <a:pt x="21114" y="5"/>
                  </a:lnTo>
                  <a:close/>
                </a:path>
              </a:pathLst>
            </a:custGeom>
            <a:noFill/>
            <a:ln w="9360">
              <a:solidFill>
                <a:srgbClr val="81ab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760320" y="177300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3d6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81abc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3d6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3d6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7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81a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</p:txBody>
      </p:sp>
      <p:grpSp>
        <p:nvGrpSpPr>
          <p:cNvPr id="44" name="Group 58"/>
          <p:cNvGrpSpPr/>
          <p:nvPr/>
        </p:nvGrpSpPr>
        <p:grpSpPr>
          <a:xfrm>
            <a:off x="4680" y="887400"/>
            <a:ext cx="6654960" cy="2851200"/>
            <a:chOff x="4680" y="887400"/>
            <a:chExt cx="6654960" cy="2851200"/>
          </a:xfrm>
        </p:grpSpPr>
        <p:sp>
          <p:nvSpPr>
            <p:cNvPr id="45" name="Line 59"/>
            <p:cNvSpPr/>
            <p:nvPr/>
          </p:nvSpPr>
          <p:spPr>
            <a:xfrm>
              <a:off x="803160" y="887400"/>
              <a:ext cx="0" cy="285120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sp>
          <p:nvSpPr>
            <p:cNvPr id="46" name="Line 60"/>
            <p:cNvSpPr/>
            <p:nvPr/>
          </p:nvSpPr>
          <p:spPr>
            <a:xfrm flipH="1" flipV="1">
              <a:off x="4680" y="3053880"/>
              <a:ext cx="5097600" cy="180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sp>
          <p:nvSpPr>
            <p:cNvPr id="47" name="Line 61"/>
            <p:cNvSpPr/>
            <p:nvPr/>
          </p:nvSpPr>
          <p:spPr>
            <a:xfrm flipH="1" flipV="1">
              <a:off x="609480" y="1488600"/>
              <a:ext cx="6050160" cy="180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sp>
          <p:nvSpPr>
            <p:cNvPr id="48" name="Arc 62"/>
            <p:cNvSpPr/>
            <p:nvPr/>
          </p:nvSpPr>
          <p:spPr>
            <a:xfrm flipH="1" rot="16200000">
              <a:off x="675360" y="1366200"/>
              <a:ext cx="247680" cy="249120"/>
            </a:xfrm>
            <a:custGeom>
              <a:avLst/>
              <a:gdLst/>
              <a:ahLst/>
              <a:rect l="l" t="t" r="r" b="b"/>
              <a:pathLst>
                <a:path fill="none" w="43195" h="43200">
                  <a:moveTo>
                    <a:pt x="21114" y="5"/>
                  </a:moveTo>
                  <a:cubicBezTo>
                    <a:pt x="21274" y="1"/>
                    <a:pt x="2143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  <a:cubicBezTo>
                    <a:pt x="43195" y="33529"/>
                    <a:pt x="33524" y="43200"/>
                    <a:pt x="21595" y="43200"/>
                  </a:cubicBezTo>
                  <a:cubicBezTo>
                    <a:pt x="9843" y="43200"/>
                    <a:pt x="247" y="33805"/>
                    <a:pt x="-1" y="22056"/>
                  </a:cubicBezTo>
                </a:path>
                <a:path stroke="0" w="43195" h="43200">
                  <a:moveTo>
                    <a:pt x="21114" y="5"/>
                  </a:moveTo>
                  <a:cubicBezTo>
                    <a:pt x="21274" y="1"/>
                    <a:pt x="2143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  <a:cubicBezTo>
                    <a:pt x="43195" y="33529"/>
                    <a:pt x="33524" y="43200"/>
                    <a:pt x="21595" y="43200"/>
                  </a:cubicBezTo>
                  <a:cubicBezTo>
                    <a:pt x="9843" y="43200"/>
                    <a:pt x="247" y="33805"/>
                    <a:pt x="-1" y="22056"/>
                  </a:cubicBezTo>
                  <a:lnTo>
                    <a:pt x="21595" y="21600"/>
                  </a:lnTo>
                  <a:lnTo>
                    <a:pt x="21114" y="5"/>
                  </a:lnTo>
                  <a:close/>
                </a:path>
              </a:pathLst>
            </a:custGeom>
            <a:noFill/>
            <a:ln w="9360">
              <a:solidFill>
                <a:srgbClr val="81ab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</p:grpSp>
      <p:grpSp>
        <p:nvGrpSpPr>
          <p:cNvPr id="49" name="Group 63"/>
          <p:cNvGrpSpPr/>
          <p:nvPr/>
        </p:nvGrpSpPr>
        <p:grpSpPr>
          <a:xfrm>
            <a:off x="2349360" y="3098880"/>
            <a:ext cx="6045480" cy="2876400"/>
            <a:chOff x="2349360" y="3098880"/>
            <a:chExt cx="6045480" cy="2876400"/>
          </a:xfrm>
        </p:grpSpPr>
        <p:sp>
          <p:nvSpPr>
            <p:cNvPr id="50" name="Line 64"/>
            <p:cNvSpPr/>
            <p:nvPr/>
          </p:nvSpPr>
          <p:spPr>
            <a:xfrm>
              <a:off x="2349360" y="5464080"/>
              <a:ext cx="6045480" cy="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sp>
          <p:nvSpPr>
            <p:cNvPr id="51" name="Line 65"/>
            <p:cNvSpPr/>
            <p:nvPr/>
          </p:nvSpPr>
          <p:spPr>
            <a:xfrm>
              <a:off x="8210520" y="3098880"/>
              <a:ext cx="0" cy="287640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  <p:sp>
          <p:nvSpPr>
            <p:cNvPr id="52" name="Arc 66"/>
            <p:cNvSpPr/>
            <p:nvPr/>
          </p:nvSpPr>
          <p:spPr>
            <a:xfrm rot="5400000">
              <a:off x="8090640" y="5312520"/>
              <a:ext cx="247680" cy="249120"/>
            </a:xfrm>
            <a:custGeom>
              <a:avLst/>
              <a:gdLst/>
              <a:ahLst/>
              <a:rect l="l" t="t" r="r" b="b"/>
              <a:pathLst>
                <a:path fill="none" w="43195" h="43200">
                  <a:moveTo>
                    <a:pt x="21114" y="5"/>
                  </a:moveTo>
                  <a:cubicBezTo>
                    <a:pt x="21274" y="1"/>
                    <a:pt x="2143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  <a:cubicBezTo>
                    <a:pt x="43195" y="33529"/>
                    <a:pt x="33524" y="43200"/>
                    <a:pt x="21595" y="43200"/>
                  </a:cubicBezTo>
                  <a:cubicBezTo>
                    <a:pt x="9843" y="43200"/>
                    <a:pt x="247" y="33805"/>
                    <a:pt x="-1" y="22056"/>
                  </a:cubicBezTo>
                </a:path>
                <a:path stroke="0" w="43195" h="43200">
                  <a:moveTo>
                    <a:pt x="21114" y="5"/>
                  </a:moveTo>
                  <a:cubicBezTo>
                    <a:pt x="21274" y="1"/>
                    <a:pt x="21434" y="-1"/>
                    <a:pt x="21595" y="0"/>
                  </a:cubicBezTo>
                  <a:cubicBezTo>
                    <a:pt x="33524" y="0"/>
                    <a:pt x="43195" y="9670"/>
                    <a:pt x="43195" y="21600"/>
                  </a:cubicBezTo>
                  <a:cubicBezTo>
                    <a:pt x="43195" y="33529"/>
                    <a:pt x="33524" y="43200"/>
                    <a:pt x="21595" y="43200"/>
                  </a:cubicBezTo>
                  <a:cubicBezTo>
                    <a:pt x="9843" y="43200"/>
                    <a:pt x="247" y="33805"/>
                    <a:pt x="-1" y="22056"/>
                  </a:cubicBezTo>
                  <a:lnTo>
                    <a:pt x="21595" y="21600"/>
                  </a:lnTo>
                  <a:lnTo>
                    <a:pt x="21114" y="5"/>
                  </a:lnTo>
                  <a:close/>
                </a:path>
              </a:pathLst>
            </a:custGeom>
            <a:noFill/>
            <a:ln w="9360">
              <a:solidFill>
                <a:srgbClr val="81ab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760320" y="177300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3d6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81abc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3d6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3d6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1998360"/>
            <a:ext cx="78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НАСТАВНА ЈЕДИНИЦА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13</a:t>
            </a: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: </a:t>
            </a:r>
            <a:br>
              <a:rPr sz="2400"/>
            </a:br>
            <a:r>
              <a:rPr b="1" lang="ru-RU" sz="4000" spc="-1" strike="noStrike">
                <a:solidFill>
                  <a:srgbClr val="003d62"/>
                </a:solidFill>
                <a:latin typeface="Calibri"/>
              </a:rPr>
              <a:t>Дозирање и избор лекова код трудница и дојиља </a:t>
            </a:r>
            <a:r>
              <a:rPr b="1" lang="ru-RU" sz="4000" spc="-1" strike="noStrike">
                <a:solidFill>
                  <a:srgbClr val="003d62"/>
                </a:solidFill>
                <a:latin typeface="Calibri"/>
              </a:rPr>
              <a:t>	</a:t>
            </a:r>
            <a:r>
              <a:rPr b="1" lang="sr-RS" sz="4000" spc="-1" strike="noStrike">
                <a:solidFill>
                  <a:srgbClr val="003d62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3d62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360" y="3309840"/>
            <a:ext cx="711036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6699"/>
                </a:solidFill>
                <a:latin typeface="Calibri"/>
              </a:rPr>
              <a:t>ИНТЕГРИСАНЕ АКАДЕМСКЕ СТУДИЈЕ</a:t>
            </a:r>
            <a:r>
              <a:rPr b="0" lang="en-US" sz="2000" spc="-1" strike="noStrike">
                <a:solidFill>
                  <a:srgbClr val="006699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6699"/>
                </a:solidFill>
                <a:latin typeface="Calibri"/>
              </a:rPr>
              <a:t>ФАРМАЦИЈ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6699"/>
                </a:solidFill>
                <a:latin typeface="Calibri"/>
              </a:rPr>
              <a:t>Предмет: Фармакокинетика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d62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6699"/>
                </a:solidFill>
                <a:latin typeface="Calibri"/>
              </a:rPr>
              <a:t>Проф. др Драган Миловановић</a:t>
            </a:r>
            <a:endParaRPr b="0" lang="en-US" sz="1800" spc="-1" strike="noStrike">
              <a:solidFill>
                <a:srgbClr val="003d62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6699"/>
                </a:solidFill>
                <a:latin typeface="Calibri"/>
              </a:rPr>
              <a:t>Проф. др Наташа Ђорђевић</a:t>
            </a:r>
            <a:r>
              <a:rPr b="0" lang="en-US" sz="2000" spc="-1" strike="noStrike">
                <a:solidFill>
                  <a:srgbClr val="00669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ка у трудноћи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- дистрибуција -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4000" y="162864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рН вредност крви у трудноћи је незнатно повећана на 7,44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последица је компензације респираторне алкалозе, која се јавља због смањеног парцијалног притиска СО2 проузрокованог дејством прогестерон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може довести до измена везивања лекова за протеине плазм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Укупна концентрација протеина плазме се не мења, али је концентрација албумина око 20-30% мања 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последица је смањене синтезе или повећаног клиренса албумин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концентрација </a:t>
            </a:r>
            <a:r>
              <a:rPr b="0" lang="el-GR" sz="2000" spc="-1" strike="noStrike">
                <a:solidFill>
                  <a:srgbClr val="003d62"/>
                </a:solidFill>
                <a:latin typeface="Calibri"/>
              </a:rPr>
              <a:t>α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1-гликопротеина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je 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умерено до незнатно смањен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ка у трудноћи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- дистрибуција -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4000" y="162864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код лекова чији клиренс је лимитиран везивањем за протеине плазме (већина лекова који се у виском проценту везују за протеине плазме), због смањења концентрације албумина повећава се слободна фракција и последично смањује укупна концентрација лека; међутим, концентрација слободног лека се не мења, па укупан ефекат остаје непромењен 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за процену дозирања, у трудноћи треба мерити концентрацију слободног лек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уколико се и концентрација слободног лека смањи, то је последица повећања интраваскуларног волумена и/или клиренс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ка у трудноћи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- метаболизам -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Прокрвљеност јетре се током трудноће не мењ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проценат минутног волумена срца који иде у јетру је мањи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 (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са око 35% пада на око 30%), али је укупна количина крви која пролази кроз јетру (услед повећања минутног волумена срца) непромењен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минутни волумен срца расте током трудноће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, 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у трећем триместру је 30-50% већи него ван трудноћ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Метаболизам лекова се значајно мења у трудноћи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промене су махом узроковане изменама у хормонском статусу: у трудноћи је ниво прогестерона до 5 пута већи, а ниво естрадиола чак и до 250 пута већи у односу на период ван трудноћ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ка у трудноћи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- метаболизам -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4000" y="1628280"/>
            <a:ext cx="8064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Активност ензима се значајно мења у трудноћи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CYP1A2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 активност је 2 пута мања у другом, а 3 пута мања у трећем триместру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проценат смањења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CYP1A2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 активности у односу на период пре трудноће може се израчунати као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200" spc="-1" strike="noStrike">
                <a:solidFill>
                  <a:srgbClr val="003d62"/>
                </a:solidFill>
                <a:latin typeface="Calibri"/>
              </a:rPr>
              <a:t>3.5814 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x </a:t>
            </a:r>
            <a:r>
              <a:rPr b="1" lang="nb-NO" sz="2200" spc="-1" strike="noStrike">
                <a:solidFill>
                  <a:srgbClr val="003d62"/>
                </a:solidFill>
                <a:latin typeface="Calibri"/>
              </a:rPr>
              <a:t>GA+ 0.0495 x GA</a:t>
            </a:r>
            <a:r>
              <a:rPr b="1" lang="nb-NO" sz="2200" spc="-1" strike="noStrike" baseline="30000">
                <a:solidFill>
                  <a:srgbClr val="003d62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3d62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где је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GA (gestational age) 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недеља трудноће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CYP3A4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 активност је већ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проценат повећања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CYP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3А4 активности у односу на период пре трудноће може се израчунати као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2.9826 x GA- 0.0741 x GA</a:t>
            </a:r>
            <a:r>
              <a:rPr b="1" lang="en-US" sz="2200" spc="-1" strike="noStrike" baseline="30000">
                <a:solidFill>
                  <a:srgbClr val="003d62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ка у трудноћи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- метаболизам -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4000" y="1628280"/>
            <a:ext cx="8064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Активност ензима се значајно мења у трудноћи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CYP2D6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 активност у трудноћи зависи од генотипа: смањује се код спорих, а повећава код екстензивних метаболизер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проценат повећања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CYP2D6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 активности код екстензивних метаболизера у односу на период пре трудноће може се израчунати као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2.2695 x GA-0.0348 x GA</a:t>
            </a:r>
            <a:r>
              <a:rPr b="1" lang="en-US" sz="2200" spc="-1" strike="noStrike" baseline="30000">
                <a:solidFill>
                  <a:srgbClr val="003d62"/>
                </a:solidFill>
                <a:latin typeface="Calibri"/>
              </a:rPr>
              <a:t>2 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CYP2C9 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и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UGT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 активност је већа, а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CYP2C19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 и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NAT2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 активност мања у трудноћи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ка у трудноћи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- излучивање -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T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оком трудноће расте прокрвљеност бубрег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пред крај трудноће 2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0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% минутног волумена срца иде у бубрег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минутни волумен срца у трећем триместру је до 50% већи него ван трудноћ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Брзина гломеруларне филтрације расте током трудноће и максимум достиже пред порођај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последица је повећане прокрвљености бубрег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за лек који се елиминише неметаболисан преко бубрега, просечна концентрација у крви под истим дозним режимом током трудноће може бити мања и до 50%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Тубуларна реапсорпција се у трудноћи не мењ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ка у трудноћи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- излучивање -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Клиренс креатинина, као показатељ бубрежне функције, у трудноћи се повећава и пред крај трудноће већи је за око 25%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може се проценити на основу познате вредности клиренса креатинина пре трудноће (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Cl</a:t>
            </a:r>
            <a:r>
              <a:rPr b="0" lang="en-US" sz="2200" spc="-1" strike="noStrike" baseline="-25000">
                <a:solidFill>
                  <a:srgbClr val="003d62"/>
                </a:solidFill>
                <a:latin typeface="Calibri"/>
              </a:rPr>
              <a:t>CR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):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Cl</a:t>
            </a:r>
            <a:r>
              <a:rPr b="1" lang="en-US" sz="2200" spc="-1" strike="noStrike" baseline="-25000">
                <a:solidFill>
                  <a:srgbClr val="003d62"/>
                </a:solidFill>
                <a:latin typeface="Calibri"/>
              </a:rPr>
              <a:t>CR</a:t>
            </a:r>
            <a:r>
              <a:rPr b="1" lang="sr-RS" sz="2200" spc="-1" strike="noStrike" baseline="-25000">
                <a:solidFill>
                  <a:srgbClr val="003d62"/>
                </a:solidFill>
                <a:latin typeface="Calibri"/>
              </a:rPr>
              <a:t>р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 (ml/min)</a:t>
            </a:r>
            <a:r>
              <a:rPr b="1" lang="sr-CS" sz="22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=</a:t>
            </a:r>
            <a:r>
              <a:rPr b="1" lang="sr-RS" sz="22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Cl</a:t>
            </a:r>
            <a:r>
              <a:rPr b="1" lang="en-US" sz="2200" spc="-1" strike="noStrike" baseline="-25000">
                <a:solidFill>
                  <a:srgbClr val="003d62"/>
                </a:solidFill>
                <a:latin typeface="Calibri"/>
              </a:rPr>
              <a:t>CR </a:t>
            </a:r>
            <a:r>
              <a:rPr b="1" lang="sr-RS" sz="2200" spc="-1" strike="noStrike">
                <a:solidFill>
                  <a:srgbClr val="003d62"/>
                </a:solidFill>
                <a:latin typeface="Calibri"/>
              </a:rPr>
              <a:t> + 3,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9107 x GA - 0,0789 x GA</a:t>
            </a:r>
            <a:r>
              <a:rPr b="1" lang="en-US" sz="2200" spc="-1" strike="noStrike" baseline="30000">
                <a:solidFill>
                  <a:srgbClr val="003d62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 algn="ctr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где је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GA (gestational age) 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недеља трудноћ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ка 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током и после порођаја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Током порођаја: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минутни волумен срца се повећава, проток крви кроз мишиће и плаценту се смањује, гастроинтестинална активност престаје 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После порођаја: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повећан минутни волумен, смањена концентрација албумина и повећана гломеруларна филтрација задржавају се до 12 недеља након порођај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измењена активност метаболишућих ензима враћа се у нормалу нагло унутар прва 24 сата после порођаја, или постепено у току првих пар месеци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интериндивидуална варијабилност у постпарталном периоду израженија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 je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 него инач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280" y="3045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ка у трудноћи 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- улога плаценте -</a:t>
            </a:r>
            <a:r>
              <a:rPr b="0" lang="sr-CS" sz="3600" spc="-1" strike="noStrike">
                <a:solidFill>
                  <a:srgbClr val="006699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Скоро сви лекови је пролазе 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не пролазе само молекули већи од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1000 Da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, нпр хепарин, инсулин, протамин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Најбоље пролазе липосолубилни, нејонизовани и лекови који се слабо везују за протеине плазм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Неки лекови се у ткиву фетуса нагомилавају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слабе базе (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“</a:t>
            </a:r>
            <a:r>
              <a:rPr b="0" i="1" lang="en-US" sz="2000" spc="-1" strike="noStrike">
                <a:solidFill>
                  <a:srgbClr val="003d62"/>
                </a:solidFill>
                <a:latin typeface="Calibri"/>
              </a:rPr>
              <a:t>ion trapping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’’) - због ниже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pH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 крви фетуса (7,3) у односу на крв мајке (7,44)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лекови који се везују за протеине фетус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лекови који имају афинитет за инфлукс транспортере на плаценталној баријери – нпр. гентамицин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На плаценталној баријери налазе се и ефлукс транспортери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нпр.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Pgp, MRP, BCRP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5280" y="3045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ка у трудноћи 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- улога плаценте -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Типови дистрибуције лекова: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комплетна – лекови се брзо дистрибуирају кроз плаценту и изједначавају концентрације у крви фетуса и крви мајк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нпр. тиопентал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појачана – лекови постижу веће концентрације у крви фетуса него у крви мајке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нпр. кетамин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некомплетна – лекови слабо пролазе плаценту и концентрација у крви фетуса остаје нижа него у крви мајке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нпр. сукцинилхолин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Механизми дистрибуције лекова: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дифузија – најчешћи начин пренос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олакшана дифузија - нпр. цефалоспорини и гликокортикоиди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активни транспорт - нпр. норадреналин и допамин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6699"/>
                </a:solidFill>
                <a:latin typeface="Calibri"/>
              </a:rPr>
              <a:t>Теме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Предавање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Фармакокинетика лекова у трудноћи. 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Улога плаценте. 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Фетална фармакокинетика.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Фармакокинетика лекова у лактацији. 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СИР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Дозирање и избор лекова код трудница и дојиља. </a:t>
            </a: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Вежбе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Фармакокинетичка израчунавања код трудница и дојиља. 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Саветовање пацијената.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5280" y="3045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ка у трудноћи 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- улога плаценте -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Приликом проласка кроз плаценту неки лекови се метаболишу (ефекат првог пролаза)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у плаценти на крају трудноће активни су </a:t>
            </a:r>
            <a:r>
              <a:rPr b="0" lang="pt-BR" sz="2200" spc="-1" strike="noStrike">
                <a:solidFill>
                  <a:srgbClr val="003d62"/>
                </a:solidFill>
                <a:latin typeface="Calibri"/>
              </a:rPr>
              <a:t>CYP1A1, CYP2E1, CYP3A4, CYP3A5, CYP3A7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 и </a:t>
            </a:r>
            <a:r>
              <a:rPr b="0" lang="pt-BR" sz="2200" spc="-1" strike="noStrike">
                <a:solidFill>
                  <a:srgbClr val="003d62"/>
                </a:solidFill>
                <a:latin typeface="Calibri"/>
              </a:rPr>
              <a:t>CYP4B1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, али и неки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UGT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 ензими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3d62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нивои ензима обично су много нижи него код мајк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остали лекови преко умбиликалне вене улазе или у јетру (нови ефекат првог пролаза) или директно у срце преко </a:t>
            </a:r>
            <a:r>
              <a:rPr b="0" i="1" lang="en-US" sz="2200" spc="-1" strike="noStrike">
                <a:solidFill>
                  <a:srgbClr val="003d62"/>
                </a:solidFill>
                <a:latin typeface="Calibri"/>
              </a:rPr>
              <a:t>ductus venosus-a 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Фетус, плацента и амнионска течност сматрају се феталним одељком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Calibri"/>
              </a:rPr>
              <a:t>Фетална фармакокинетика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A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псорпциј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зависи од плацент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у</a:t>
            </a:r>
            <a:r>
              <a:rPr b="0" lang="ru-RU" sz="2000" spc="-1" strike="noStrike">
                <a:solidFill>
                  <a:srgbClr val="003d62"/>
                </a:solidFill>
                <a:latin typeface="Calibri"/>
              </a:rPr>
              <a:t> трећем триместру транспорт кроз плаценту је повећан као последица повећања утероплацентног и фетоплацентног протока, повећања површине плаценте и истањења плацентне баријер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d62"/>
                </a:solidFill>
                <a:latin typeface="Calibri"/>
              </a:rPr>
              <a:t>у равнотежном стању концентрација лека у феталној крви достиже 50-100% концентрације у крви мајк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Дистрибуциј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d62"/>
                </a:solidFill>
                <a:latin typeface="Calibri"/>
              </a:rPr>
              <a:t>концентрација албумина у феталној крви расте током трудоће и пред крај достиже вредности које су до 20% веће у односу на вредности у крви мајк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концентрација </a:t>
            </a:r>
            <a:r>
              <a:rPr b="0" lang="el-GR" sz="2000" spc="-1" strike="noStrike">
                <a:solidFill>
                  <a:srgbClr val="003d62"/>
                </a:solidFill>
                <a:latin typeface="Calibri"/>
              </a:rPr>
              <a:t>α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1-гликопротеина током трудноће опада, па приликом примене лекова који се за њих везују долази до пораста слободне фракције у феталној крви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Calibri"/>
              </a:rPr>
              <a:t>Фетална фармакокинетика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4000" y="1628640"/>
            <a:ext cx="8459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Метаболизам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ензимски процеси постају активни тек око 7-8. недеље трудноће, и нижи су у односу на мајчине, па успорени клиренс лекова може довести до њихове акумулациј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на самом почетку се одвијају екстрахепатично (у феталном надбубрегу)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пред крај трудноће достижу 30-60% активности одраслог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најважнији метаболишући ензим код фетуса је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CYP3A7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активност ензима </a:t>
            </a:r>
            <a:r>
              <a:rPr b="0" lang="en-US" sz="1900" spc="-1" strike="noStrike">
                <a:solidFill>
                  <a:srgbClr val="003d62"/>
                </a:solidFill>
                <a:latin typeface="Calibri"/>
              </a:rPr>
              <a:t>II </a:t>
            </a: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фазе је значајно мања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Излучивањ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основни начин је дифузија кроз плаценту у мајчин крвоток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отежан је метаболизмом, јер поларни метаболити теже дифундују 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d62"/>
                </a:solidFill>
                <a:latin typeface="Calibri"/>
              </a:rPr>
              <a:t>поларне супстанце се излучују преко бубрега у амнионску течност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d62"/>
                </a:solidFill>
                <a:latin typeface="Calibri"/>
              </a:rPr>
              <a:t>проток крви</a:t>
            </a:r>
            <a:r>
              <a:rPr b="0" lang="en-US" sz="19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кроз бубреге </a:t>
            </a:r>
            <a:r>
              <a:rPr b="0" lang="ru-RU" sz="1900" spc="-1" strike="noStrike">
                <a:solidFill>
                  <a:srgbClr val="003d62"/>
                </a:solidFill>
                <a:latin typeface="Calibri"/>
              </a:rPr>
              <a:t>је мали и овакво излучивање је мање изражено и спорије него код одраслих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buClr>
                <a:srgbClr val="003d62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d62"/>
                </a:solidFill>
                <a:latin typeface="Calibri"/>
              </a:rPr>
              <a:t>гутањем плодове воде тако излучени лекови се реапсорбују</a:t>
            </a:r>
            <a:endParaRPr b="0" lang="en-US" sz="1900" spc="-1" strike="noStrike">
              <a:solidFill>
                <a:srgbClr val="003d6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6699"/>
                </a:solidFill>
                <a:latin typeface="Calibri"/>
              </a:rPr>
              <a:t>Моделирање плацентног </a:t>
            </a:r>
            <a:r>
              <a:rPr b="0" lang="sr-RS" sz="3600" spc="-1" strike="noStrike">
                <a:solidFill>
                  <a:srgbClr val="006699"/>
                </a:solidFill>
                <a:latin typeface="Calibri"/>
              </a:rPr>
              <a:t>трансфера </a:t>
            </a:r>
            <a:r>
              <a:rPr b="0" lang="sr-Latn-CS" sz="3600" spc="-1" strike="noStrike">
                <a:solidFill>
                  <a:srgbClr val="006699"/>
                </a:solidFill>
                <a:latin typeface="Calibri"/>
              </a:rPr>
              <a:t>и фетална изложеност л</a:t>
            </a:r>
            <a:r>
              <a:rPr b="0" lang="sr-RS" sz="3600" spc="-1" strike="noStrike">
                <a:solidFill>
                  <a:srgbClr val="006699"/>
                </a:solidFill>
                <a:latin typeface="Calibri"/>
              </a:rPr>
              <a:t>ековима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d62"/>
                </a:solidFill>
                <a:latin typeface="Calibri"/>
              </a:rPr>
              <a:t>У зависности од физичко-хемијских својстава лека, такође значајно варира између врст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Гестацијске промене у физиологији мајке које утичу на диспозицију леков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Промене које се јављају у физиологији плаценте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Промене у диспозицији и клиренсу лекова у фетусу током времена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6699"/>
                </a:solidFill>
                <a:latin typeface="Calibri"/>
              </a:rPr>
              <a:t>Изложеност лековима у трудноћи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812960"/>
          <a:ext cx="8229600" cy="42069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већана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0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мањена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0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промењена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0ea"/>
                    </a:solidFill>
                  </a:tcPr>
                </a:tc>
              </a:tr>
              <a:tr h="375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Инфликсимаб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8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Еноксапарин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Кеторолак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Левотироксин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Линезолид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Метопролол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Моксифлоксацин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Оселтамивир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Флуоксетин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8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Адалимумаб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Амоксицилин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Атенолол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Бупренорфин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Лопинавир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Метронидазол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Ондансетрон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Парацетамол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d62"/>
                          </a:solidFill>
                          <a:latin typeface="Calibri"/>
                        </a:rPr>
                        <a:t>Сертралин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8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6699"/>
                </a:solidFill>
                <a:latin typeface="Calibri"/>
              </a:rPr>
              <a:t>Принципи дозирања лекова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Уобичајени поступак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Примењена доза се обично заснива на препорученој дози за мушкарце или жене изван трудноће у комбинацији са проценом клиничара.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Механицистички поступак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Дизајнирање одговарајућих протокола дозирањ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чки модел заснован на физиологији </a:t>
            </a:r>
            <a:r>
              <a:rPr b="0" lang="en-US" sz="4000" spc="-1" strike="noStrike">
                <a:solidFill>
                  <a:srgbClr val="006699"/>
                </a:solidFill>
                <a:latin typeface="Calibri"/>
              </a:rPr>
              <a:t>(PBPK)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Кретања лекова у телу до физиолошки реалистичне структуре одељака користећи скупове диференцијалних једначин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Физиолошки параметри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(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нпр. </a:t>
            </a: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временски различите промене у телесној тежини мајке, појединачном волумену органа / протоку крви, минутном волуменз, брзини гломеруларне филтрације и активностима ензима који метаболишу лекове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) 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d62"/>
                </a:solidFill>
                <a:latin typeface="Calibri"/>
              </a:rPr>
              <a:t>Параметри специфични за лек (нпр. физи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чко</a:t>
            </a:r>
            <a:r>
              <a:rPr b="0" lang="sr-Latn-CS" sz="2400" spc="-1" strike="noStrike">
                <a:solidFill>
                  <a:srgbClr val="003d62"/>
                </a:solidFill>
                <a:latin typeface="Calibri"/>
              </a:rPr>
              <a:t>-хемијска својства и карактеристике 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ин </a:t>
            </a:r>
            <a:r>
              <a:rPr b="0" lang="sr-Latn-CS" sz="2400" spc="-1" strike="noStrike">
                <a:solidFill>
                  <a:srgbClr val="003d62"/>
                </a:solidFill>
                <a:latin typeface="Calibri"/>
              </a:rPr>
              <a:t>витро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3d62"/>
                </a:solidFill>
                <a:latin typeface="Calibri"/>
              </a:rPr>
              <a:t>метаболизма / транспорта)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6699"/>
                </a:solidFill>
                <a:latin typeface="Calibri"/>
              </a:rPr>
              <a:t>Приказ случаја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Трудница с</a:t>
            </a:r>
            <a:r>
              <a:rPr b="0" lang="sr-Latn-CS" sz="2200" spc="-1" strike="noStrike">
                <a:solidFill>
                  <a:srgbClr val="003d62"/>
                </a:solidFill>
                <a:latin typeface="Calibri"/>
              </a:rPr>
              <a:t>а хроничном хипертензијом, која је наставила 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да </a:t>
            </a:r>
            <a:r>
              <a:rPr b="0" lang="sr-Latn-CS" sz="2200" spc="-1" strike="noStrike">
                <a:solidFill>
                  <a:srgbClr val="003d62"/>
                </a:solidFill>
                <a:latin typeface="Calibri"/>
              </a:rPr>
              <a:t>узима 50 мг два пута дневно орални метопролол пре и током трудноће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, јавља се с</a:t>
            </a:r>
            <a:r>
              <a:rPr b="0" lang="sr-Latn-CS" sz="2200" spc="-1" strike="noStrike">
                <a:solidFill>
                  <a:srgbClr val="003d62"/>
                </a:solidFill>
                <a:latin typeface="Calibri"/>
              </a:rPr>
              <a:t>а повишеним крвним притиском (&gt; 150/100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 ммХг</a:t>
            </a:r>
            <a:r>
              <a:rPr b="0" lang="sr-Latn-CS" sz="2200" spc="-1" strike="noStrike">
                <a:solidFill>
                  <a:srgbClr val="003d62"/>
                </a:solidFill>
                <a:latin typeface="Calibri"/>
              </a:rPr>
              <a:t>) 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на почетку </a:t>
            </a:r>
            <a:r>
              <a:rPr b="0" lang="sr-Latn-CS" sz="2200" spc="-1" strike="noStrike">
                <a:solidFill>
                  <a:srgbClr val="003d62"/>
                </a:solidFill>
                <a:latin typeface="Calibri"/>
              </a:rPr>
              <a:t>трећ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ег триместра</a:t>
            </a:r>
            <a:r>
              <a:rPr b="0" lang="sr-Latn-CS" sz="2200" spc="-1" strike="noStrike">
                <a:solidFill>
                  <a:srgbClr val="003d62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d62"/>
                </a:solidFill>
                <a:latin typeface="Calibri"/>
              </a:rPr>
              <a:t>Њен крвни прити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сак</a:t>
            </a:r>
            <a:r>
              <a:rPr b="0" lang="sr-Latn-CS" sz="2000" spc="-1" strike="noStrike">
                <a:solidFill>
                  <a:srgbClr val="003d62"/>
                </a:solidFill>
                <a:latin typeface="Calibri"/>
              </a:rPr>
              <a:t> у првом и другом 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триместру је био добро контролисан и износио је, </a:t>
            </a:r>
            <a:r>
              <a:rPr b="0" lang="sr-Latn-CS" sz="2000" spc="-1" strike="noStrike">
                <a:solidFill>
                  <a:srgbClr val="003d62"/>
                </a:solidFill>
                <a:latin typeface="Calibri"/>
              </a:rPr>
              <a:t>у просеку 110/70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 ммХг</a:t>
            </a:r>
            <a:r>
              <a:rPr b="0" lang="sr-Latn-CS" sz="2000" spc="-1" strike="noStrike">
                <a:solidFill>
                  <a:srgbClr val="003d62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d62"/>
                </a:solidFill>
                <a:latin typeface="Calibri"/>
              </a:rPr>
              <a:t>Допунска дијагностика је искључила додатне поремећаје као што су прееклампсија и други узроци погоршања хипертензиј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Разматрају се могућности повећања дозе метопролола или замена неким другим леком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d62"/>
                </a:solidFill>
                <a:latin typeface="Calibri"/>
              </a:rPr>
              <a:t>Донета је одлука да се доза метопролола постепено повећа до 150 мг три пута дневно.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d62"/>
                </a:solidFill>
                <a:latin typeface="Calibri"/>
              </a:rPr>
              <a:t>Крвни притисак јој се нормализовао, трудноћа се наставила и рођено је здраво дет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d62"/>
                </a:solidFill>
                <a:latin typeface="Calibri"/>
              </a:rPr>
              <a:t>Два месеца након порођаја, доза је враћена у дозу пре трудноћ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6699"/>
                </a:solidFill>
                <a:latin typeface="Calibri"/>
              </a:rPr>
              <a:t>Приказ (2)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Фармакогенетик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Метопролол се метаболише путем цитохрома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P450 (CYP) 2D6.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CYP2D6 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активност расте почев од раног другог триместра и наставља се како трудноћа напредуј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Клонидин,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S-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метопролол, карведилол, пропранолол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До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7% 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људи у САД су ултрабрзи метаболизери, а у популацији у Азији и до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45% 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(мултипликација гена)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Клиренс многих лекова се у трудноћи повећав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Смањење концентрације лека у крви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6699"/>
                </a:solidFill>
                <a:latin typeface="Calibri"/>
              </a:rPr>
              <a:t>Лекови и лактација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Епидемиолошке студије указују да већина жена током периода дојења узима лекова (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65.9%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-88.7%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Најчешће коришћени лекови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Аналгетици, антибиотици, витамини, суплементи гвожђа, лаксативи, пробиотици, препарати у слободној продаји (ОТЦ) са или без лекова на рецепт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Потенцијални проблеми нису ретки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Коришћење лекова са вероватним штетним дејством на одојче (11.3%)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Потенцијално неадекватна доза (4.5%)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Потреба за праћењем одојчета због потенцијалног ризика од нежељених дејстава лека (3.6%)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ка у трудноћи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- значај -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4000" y="1628640"/>
            <a:ext cx="8064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Примена лекова у трудноћи често је неопходна, како због саме трудноће, тако и због болести мајке које захтевају лечењ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процењује се да у развијеним земљама 80% трудница узима бар један лек (прописан или </a:t>
            </a:r>
            <a:r>
              <a:rPr b="0" i="1" lang="sr-RS" sz="2000" spc="-1" strike="noStrike">
                <a:solidFill>
                  <a:srgbClr val="003d62"/>
                </a:solidFill>
                <a:latin typeface="Calibri"/>
              </a:rPr>
              <a:t>о</a:t>
            </a:r>
            <a:r>
              <a:rPr b="0" i="1" lang="en-US" sz="2000" spc="-1" strike="noStrike">
                <a:solidFill>
                  <a:srgbClr val="003d62"/>
                </a:solidFill>
                <a:latin typeface="Calibri"/>
              </a:rPr>
              <a:t>ver-the-counter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због страха од тератогености и фетотоксичности, лекови се често не примењују довољно дуго и у довољној дози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доза и дозни режим увелико зависе од фармакокинетике лека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Трудноћа мења анатомију и физиологију жене, а тиме у великој мери и фармакокинетику леков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екстраполација фармакокинетских података добијених студијама на женама ван трудноће често није прихватљив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са етичког становишта труднице су вулнерабилна популација, па их фармакокинетичке студије веома ретко укључују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Calibri"/>
              </a:rPr>
              <a:t>Фармакокинетика лекова у лактацији</a:t>
            </a:r>
            <a:br>
              <a:rPr sz="3600"/>
            </a:br>
            <a:r>
              <a:rPr b="0" lang="ru-RU" sz="3600" spc="-1" strike="noStrike">
                <a:solidFill>
                  <a:srgbClr val="006699"/>
                </a:solidFill>
                <a:latin typeface="Calibri"/>
              </a:rPr>
              <a:t>- дистрибуција лекова у млеко -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Дистрибуција лекова у млеко обавља се у највећој мери пасивном дифузијом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фактори који утичу су везивање лека за протеине плазме у крви мајке, везивање лека за протеине млека, садржај масти у млеку и физичко-хемијске карактеристике лек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O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днос концентрација лека у млеку и плазми је познат за већину лекова и користи се за процену дневне количине лека која доспе до новорођенчета/одојчета преко мајчиног млека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 (ID - infant daily dose)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ID </a:t>
            </a:r>
            <a:r>
              <a:rPr b="1" lang="sr-RS" sz="2200" spc="-1" strike="noStrike">
                <a:solidFill>
                  <a:srgbClr val="003d62"/>
                </a:solidFill>
                <a:latin typeface="Calibri"/>
              </a:rPr>
              <a:t>(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mg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/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kg</a:t>
            </a:r>
            <a:r>
              <a:rPr b="1" lang="sr-RS" sz="2200" spc="-1" strike="noStrike">
                <a:solidFill>
                  <a:srgbClr val="003d62"/>
                </a:solidFill>
                <a:latin typeface="Calibri"/>
              </a:rPr>
              <a:t>) 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= Cm</a:t>
            </a:r>
            <a:r>
              <a:rPr b="1" lang="sr-RS" sz="2200" spc="-1" strike="noStrike">
                <a:solidFill>
                  <a:srgbClr val="003d62"/>
                </a:solidFill>
                <a:latin typeface="Calibri"/>
              </a:rPr>
              <a:t> (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mg/ml) ×</a:t>
            </a:r>
            <a:r>
              <a:rPr b="1" lang="sr-RS" sz="22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M/P × Vm (ml/kg)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Cm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 – просечна концентрација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лека у плазми мајке,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M/P* 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– однос концентрација у млеку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(M) 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и плазми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 (P)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Vm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 – запремина мајчиног млека коју дете попије током једног дана (обично око 150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ml/kg)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d62"/>
                </a:solidFill>
                <a:latin typeface="Calibri"/>
              </a:rPr>
              <a:t>M/P</a:t>
            </a: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 се заснива на вредностима површина испод криве концентрација/време, ако је </a:t>
            </a:r>
            <a:r>
              <a:rPr b="0" lang="en-US" sz="1900" spc="-1" strike="noStrike">
                <a:solidFill>
                  <a:srgbClr val="003d62"/>
                </a:solidFill>
                <a:latin typeface="Calibri"/>
              </a:rPr>
              <a:t>&gt;1 – </a:t>
            </a: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лек се акумулира у млеку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Calibri"/>
              </a:rPr>
              <a:t>Фармакокинетика лекова у лактацији</a:t>
            </a:r>
            <a:br>
              <a:rPr sz="3600"/>
            </a:br>
            <a:r>
              <a:rPr b="0" lang="ru-RU" sz="3600" spc="-1" strike="noStrike">
                <a:solidFill>
                  <a:srgbClr val="006699"/>
                </a:solidFill>
                <a:latin typeface="Calibri"/>
              </a:rPr>
              <a:t>- дистрибуција лекова у млеко -</a:t>
            </a:r>
            <a:endParaRPr b="0" lang="en-US" sz="36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За процену безбедности дојења приликом примене лекова израчунава се релативна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ID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 (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RID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):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d62"/>
                </a:solidFill>
                <a:latin typeface="Calibri"/>
              </a:rPr>
              <a:t>RID</a:t>
            </a:r>
            <a:r>
              <a:rPr b="1" lang="sr-RS" sz="2400" spc="-1" strike="noStrike">
                <a:solidFill>
                  <a:srgbClr val="003d62"/>
                </a:solidFill>
                <a:latin typeface="Calibri"/>
              </a:rPr>
              <a:t> = </a:t>
            </a:r>
            <a:r>
              <a:rPr b="1" lang="en-US" sz="2400" spc="-1" strike="noStrike">
                <a:solidFill>
                  <a:srgbClr val="003d62"/>
                </a:solidFill>
                <a:latin typeface="Calibri"/>
              </a:rPr>
              <a:t>[ID (mg/kg) / TD (mg/kg)] x 100%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ID - 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дневна количина лека која доспе до новорођенчета/одојчета преко мајчиног млека,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TD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 – терапијска дневна доза мајк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арбитрарна граница је 10%: уз малобројне изузетке, вредности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RID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 мање од 10% сматрају се безбедним за дет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Безбедност дојења у највећој мери одређује елиминација леков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време полуелиминације вежине лекова код новорођенчета/одојчета је продужено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6699"/>
                </a:solidFill>
                <a:latin typeface="Calibri"/>
              </a:rPr>
              <a:t>Процена безбедности дозе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Количина подојеног млека </a:t>
            </a:r>
            <a:r>
              <a:rPr b="0" lang="sr-CS" sz="2400" spc="-1" strike="noStrike">
                <a:solidFill>
                  <a:srgbClr val="003d62"/>
                </a:solidFill>
                <a:latin typeface="Symbol"/>
                <a:ea typeface="Symbol"/>
              </a:rPr>
              <a:t></a:t>
            </a: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0.15</a:t>
            </a: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L/kg/</a:t>
            </a: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дан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Арбитрарни лимит безбедности 10% - однос дозе одојчета и дозе мајке (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RID</a:t>
            </a: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) (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mg/kg</a:t>
            </a: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Зависи од природе лек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Литијум (80%), амјодарон (50%)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Високо токсични лекови КИ (и мање од 10%)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3d62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Цитотоксични лекови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3d62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Ергот алкалоиди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3d62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Препарати злата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3d62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3d62"/>
                </a:solidFill>
                <a:latin typeface="Calibri"/>
              </a:rPr>
              <a:t>Имуносупресиви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81abcb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Моделовање проласка лека у млеко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Динамички модел дојења који се састоји од три одељка: 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крв дојке, ткиво дојке, млеко 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Физиолошки параметри: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волумен ткива и проток крви,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pH </a:t>
            </a: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млека и унос млека, заједно са појединачним физиолошким параметрима и њиховом променљивошћу. 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Предвиђање модела вредности 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AUC</a:t>
            </a:r>
            <a:r>
              <a:rPr b="0" lang="en-US" sz="2400" spc="-1" strike="noStrike" baseline="-25000">
                <a:solidFill>
                  <a:srgbClr val="003d62"/>
                </a:solidFill>
                <a:latin typeface="Calibri"/>
              </a:rPr>
              <a:t>0–24h</a:t>
            </a: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 млека и плазме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Calibri"/>
              </a:rPr>
              <a:t>Фармакокинетика лекова у лактацији</a:t>
            </a:r>
            <a:br>
              <a:rPr sz="3600"/>
            </a:br>
            <a:r>
              <a:rPr b="0" lang="ru-RU" sz="3100" spc="-1" strike="noStrike">
                <a:solidFill>
                  <a:srgbClr val="006699"/>
                </a:solidFill>
                <a:latin typeface="Calibri"/>
              </a:rPr>
              <a:t>- фармакокинетика </a:t>
            </a:r>
            <a:r>
              <a:rPr b="0" lang="sr-RS" sz="3100" spc="-1" strike="noStrike">
                <a:solidFill>
                  <a:srgbClr val="006699"/>
                </a:solidFill>
                <a:latin typeface="Calibri"/>
              </a:rPr>
              <a:t>код новорођенчета/одојчета -</a:t>
            </a:r>
            <a:endParaRPr b="0" lang="en-US" sz="31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4000" y="1628280"/>
            <a:ext cx="813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Апсорпциј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киселост желуца је смањена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боље се апсорбују базни лекови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пражњење желуца је успорено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време до постизања максималне конц. лека у крви је продужено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перисталтика је неправилна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обим апсорпције је повећан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Дистрибуциј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организам садржи више воде и мање масти него одрасли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волумен дистрибуције хидрофилних лекова је повећан, а липофилних смањен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концентрација протеина плазме је смањена и мањег афинитета за лекове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концентрација слободног лека је увећана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Calibri"/>
              </a:rPr>
              <a:t>Фармакокинетика лекова у лактацији</a:t>
            </a:r>
            <a:br>
              <a:rPr sz="3600"/>
            </a:br>
            <a:r>
              <a:rPr b="0" lang="ru-RU" sz="3100" spc="-1" strike="noStrike">
                <a:solidFill>
                  <a:srgbClr val="006699"/>
                </a:solidFill>
                <a:latin typeface="Calibri"/>
              </a:rPr>
              <a:t>- фармакокинетика </a:t>
            </a:r>
            <a:r>
              <a:rPr b="0" lang="sr-RS" sz="3100" spc="-1" strike="noStrike">
                <a:solidFill>
                  <a:srgbClr val="006699"/>
                </a:solidFill>
                <a:latin typeface="Calibri"/>
              </a:rPr>
              <a:t>код новорођенчета/одојчета -</a:t>
            </a:r>
            <a:endParaRPr b="0" lang="en-US" sz="31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4000" y="1628640"/>
            <a:ext cx="81356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Метаболизам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сазревање метаболишућег система наступа тек око 8. месеца живота (код превремено рођених и касније)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ензими </a:t>
            </a:r>
            <a:r>
              <a:rPr b="0" lang="en-US" sz="1900" spc="-1" strike="noStrike">
                <a:solidFill>
                  <a:srgbClr val="003d62"/>
                </a:solidFill>
                <a:latin typeface="Calibri"/>
              </a:rPr>
              <a:t>I </a:t>
            </a: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фазе развијају се различитом брзином, између 2. месеца и 3. године неки могу и превазићи метаболички капацитет одраслог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ензими </a:t>
            </a:r>
            <a:r>
              <a:rPr b="0" lang="en-US" sz="1900" spc="-1" strike="noStrike">
                <a:solidFill>
                  <a:srgbClr val="003d62"/>
                </a:solidFill>
                <a:latin typeface="Calibri"/>
              </a:rPr>
              <a:t>II </a:t>
            </a: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фазе развијају се још спорије и неправилно, са израженим интер-индивидуалним варијацијама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Излучивањ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сазревање бубрежне функције наступа између 2. и 9. месеца (код превремено рођених значајно касније)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3d62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новорођенче старо 3 дана има ниво гломеруларне филтрације који износи 1/3 вредности одраслог, нормализација између 2. и 5. месеца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3d62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тубуларна секреција развија се још касније,</a:t>
            </a:r>
            <a:r>
              <a:rPr b="0" lang="en-US" sz="19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0" lang="sr-RS" sz="1900" spc="-1" strike="noStrike">
                <a:solidFill>
                  <a:srgbClr val="003d62"/>
                </a:solidFill>
                <a:latin typeface="Calibri"/>
              </a:rPr>
              <a:t>нормализација тек између 7. и 9. месеца</a:t>
            </a: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6699"/>
                </a:solidFill>
                <a:latin typeface="Calibri"/>
              </a:rPr>
              <a:t>Клиренс лекова код деце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600200"/>
          <a:ext cx="8229600" cy="4414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зраст одојчета и малог детета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0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лиренс лека у односу на одрасле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0ea"/>
                    </a:solidFill>
                  </a:tcPr>
                </a:tc>
              </a:tr>
              <a:tr h="599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-28 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деља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8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%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8f7"/>
                    </a:solidFill>
                  </a:tcPr>
                </a:tc>
              </a:tr>
              <a:tr h="598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-34 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деља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4f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%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4fb"/>
                    </a:solidFill>
                  </a:tcPr>
                </a:tc>
              </a:tr>
              <a:tr h="597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-40 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деља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8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%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8f7"/>
                    </a:solidFill>
                  </a:tcPr>
                </a:tc>
              </a:tr>
              <a:tr h="598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-44 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деља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4f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%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4fb"/>
                    </a:solidFill>
                  </a:tcPr>
                </a:tc>
              </a:tr>
              <a:tr h="597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-68 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деља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8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%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8f7"/>
                    </a:solidFill>
                  </a:tcPr>
                </a:tc>
              </a:tr>
              <a:tr h="596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gt; 68 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деља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4f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 </a:t>
                      </a:r>
                      <a:endParaRPr b="0" lang="en-US" sz="2400" spc="-1" strike="noStrike">
                        <a:solidFill>
                          <a:srgbClr val="003d62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4f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6699"/>
                </a:solidFill>
                <a:latin typeface="Calibri"/>
              </a:rPr>
              <a:t>Одлука о примени лека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Очекиване користи по мајку и ризици за одојче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Праћење општег статуса детет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Слабије напредовање, иритација, седациј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Дојити непосредно пре примене лек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Привремени прекид дојењ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Поново почети дојење за 5 периода полуелиминације лека од престанка примен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6699"/>
                </a:solidFill>
                <a:latin typeface="Calibri"/>
              </a:rPr>
              <a:t>Друга практична упутства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Прописивати најмању дозу која је ефикасн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Одабрати начин примене са мањим ризиком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Нпр. предност дати слаборесорбујућим лаксативима (влакна) у односу на оне с надражајним дејством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Одабрати лек повољне фармакокинетике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Нпр. кратко полувреме елиминациј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Избегавати неселективну и без преке потребе примену 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биљних лекова, дијететских суплемената и поливитаминских препарата (адултерације)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Примена лека прва 3-4 дана је обично безбедна због ограничене запремине подојеног млек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6699"/>
                </a:solidFill>
                <a:latin typeface="Calibri"/>
              </a:rPr>
              <a:t>Друга практична упутства (2)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Узраст, телесна маса, клинички статус детет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Недоношчад и новорођенчад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Клиничка нестабилност и поремећаји дигестивног тракт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Одобрени (лиценцирани) лекови у педијатрији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дуготрајна медикациј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Количина подојеног млек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најчешће мала ако дојење траје дуже од 1 годин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Избегавати лекове који ремете стварање млек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Calibri"/>
              </a:rPr>
              <a:t>Најчешће коришћени лекови у трудноћи 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d62"/>
                </a:solidFill>
                <a:latin typeface="Calibri"/>
              </a:rPr>
              <a:t>Лечење акутних стања која се могу погоршати трудноћом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главобоља, општи болови и болови, желудачни рефлукс, симптоми прехладе, мучнина и инфекције мокраћних путев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Лекови за најчешћа хронична стања 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алергија, астма, стања штитасте жлезде, депресија, жене са трансплантираним органима, епилепсиј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d62"/>
                </a:solidFill>
                <a:latin typeface="Calibri"/>
              </a:rPr>
              <a:t>Лечење постојећих стањ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3d62"/>
                </a:solidFill>
                <a:latin typeface="Calibri"/>
              </a:rPr>
              <a:t>Бактеријске, вирусне или гљивичне инфекције, стања везана за трудноћу, попут гестацијског дијабетеса и хипертензиј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Calibri"/>
                <a:ea typeface="Calibri"/>
              </a:rPr>
              <a:t>Категоризација ризика лекова</a:t>
            </a:r>
            <a:endParaRPr b="0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alibri"/>
                <a:ea typeface="Calibri"/>
              </a:rPr>
              <a:t>Америчка управа за храну и лекове (ФДА)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alibri"/>
                <a:ea typeface="Calibri"/>
              </a:rPr>
              <a:t>Од 1979. </a:t>
            </a:r>
            <a:r>
              <a:rPr b="0" lang="sr-RS" sz="2400" spc="-1" strike="noStrike">
                <a:solidFill>
                  <a:srgbClr val="006699"/>
                </a:solidFill>
                <a:latin typeface="Calibri"/>
                <a:ea typeface="Calibri"/>
              </a:rPr>
              <a:t>до 2014. </a:t>
            </a:r>
            <a:r>
              <a:rPr b="0" lang="en-US" sz="2400" spc="-1" strike="noStrike">
                <a:solidFill>
                  <a:srgbClr val="006699"/>
                </a:solidFill>
                <a:latin typeface="Calibri"/>
                <a:ea typeface="Calibri"/>
              </a:rPr>
              <a:t>- Категорије А, В, С, D, X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alibri"/>
                <a:ea typeface="Calibri"/>
              </a:rPr>
              <a:t>Од 2015. наративна категоризација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Calibri"/>
                <a:ea typeface="Calibri"/>
              </a:rPr>
              <a:t>1. Трудноћ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alibri"/>
                <a:ea typeface="Calibri"/>
              </a:rPr>
              <a:t>Преглед ризик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alibri"/>
                <a:ea typeface="Calibri"/>
              </a:rPr>
              <a:t>Клинички аспекти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alibri"/>
                <a:ea typeface="Calibri"/>
              </a:rPr>
              <a:t>Подаци (код људи и експерименталних животиња)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alibri"/>
                <a:ea typeface="Calibri"/>
              </a:rPr>
              <a:t>Регистри употребе лекова у трудноћи (ако је применљиво)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Calibri"/>
                <a:ea typeface="Calibri"/>
              </a:rPr>
              <a:t>2. Дојење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Calibri"/>
                <a:ea typeface="Calibri"/>
              </a:rPr>
              <a:t>3. Репродуктивни потенцијал за женски и мушки пол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ка у трудноћи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- апсорпција -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4000" y="1628640"/>
            <a:ext cx="80643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Мотилитет гастроинтестиналног тракта у целини је непромењен у прва два, а успорен у трећем триместру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рН вредност желудачног сока је повећана током целе трудноћ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Током трудноће, време до постизања максималне концентрације орално примењеног лека обично је продужено, а максимална концентрација у крви снижен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од посебног значаја у примени лекова у појединачној дози, од којих се очекује брзо деловање (нпр. аналгетици и антиеметици)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Биорасположивост лекова може бити и смањена и повећан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за орално примењене лекове зависи од активности метаболишућих ензима током првог пролаза кроз јетру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за парентерално примењене лекове зависи од начина примене: током трудноће расте прокрвљеност коже, а смањује се прокрвљеност мишића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ка у трудноћи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- дистрибуција -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4000" y="1628640"/>
            <a:ext cx="8064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Телесна маса током трудноће расте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за особе нормалне ухрањености пораст обично износи од 10 до око 17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kg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последица је како повећања телесне течности, тако и повећања масног ткива 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d62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003d62"/>
                </a:solidFill>
                <a:uFillTx/>
                <a:latin typeface="Calibri"/>
              </a:rPr>
              <a:t>Повећање телесне течности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Укупна количина екстрацелуларне течности (</a:t>
            </a:r>
            <a:r>
              <a:rPr b="0" i="1" lang="en-US" sz="2200" spc="-1" strike="noStrike">
                <a:solidFill>
                  <a:srgbClr val="003d62"/>
                </a:solidFill>
                <a:latin typeface="Calibri"/>
              </a:rPr>
              <a:t>ECF, extracellular fluid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)</a:t>
            </a:r>
            <a:r>
              <a:rPr b="1" lang="sr-RS" sz="22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и укупна количина воде у организму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(</a:t>
            </a:r>
            <a:r>
              <a:rPr b="0" i="1" lang="en-US" sz="2200" spc="-1" strike="noStrike">
                <a:solidFill>
                  <a:srgbClr val="003d62"/>
                </a:solidFill>
                <a:latin typeface="Calibri"/>
              </a:rPr>
              <a:t>TBW, total body water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) 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такође расту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повећање зависи од телесне тежине и креће се од 35% до 65% за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ECF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, односно од 10% до 25% за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TBW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доводи до повећања волумена дистрибуције хидрофилних лекова, чиме се повећава доза коју треба дати за постизање жељене концентрације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ка у трудноћи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- дистрибуција -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4000" y="1628640"/>
            <a:ext cx="8064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TBW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 у трудноћи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може се израчунати као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d62"/>
                </a:solidFill>
                <a:latin typeface="Calibri"/>
              </a:rPr>
              <a:t>TBW</a:t>
            </a:r>
            <a:r>
              <a:rPr b="1" lang="sr-RS" sz="2400" spc="-1" strike="noStrike">
                <a:solidFill>
                  <a:srgbClr val="003d62"/>
                </a:solidFill>
                <a:latin typeface="Calibri"/>
              </a:rPr>
              <a:t>р</a:t>
            </a:r>
            <a:r>
              <a:rPr b="1" lang="en-US" sz="2400" spc="-1" strike="noStrike">
                <a:solidFill>
                  <a:srgbClr val="003d62"/>
                </a:solidFill>
                <a:latin typeface="Calibri"/>
              </a:rPr>
              <a:t> (l) = TBW (l) + 0.275 x GA+ 0.0024 x GA</a:t>
            </a:r>
            <a:r>
              <a:rPr b="1" lang="en-US" sz="2400" spc="-1" strike="noStrike" baseline="30000">
                <a:solidFill>
                  <a:srgbClr val="003d62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где је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TBW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 укупна количина воде у организму жене пре трудноће и израчунава се као 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TBW (l) = -2.097 + 0.1069 x </a:t>
            </a:r>
            <a:r>
              <a:rPr b="1" lang="sr-RS" sz="2200" spc="-1" strike="noStrike">
                <a:solidFill>
                  <a:srgbClr val="003d62"/>
                </a:solidFill>
                <a:latin typeface="Calibri"/>
              </a:rPr>
              <a:t>висина 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(cm)+ 0.2466 x </a:t>
            </a:r>
            <a:r>
              <a:rPr b="1" lang="sr-RS" sz="2200" spc="-1" strike="noStrike">
                <a:solidFill>
                  <a:srgbClr val="003d62"/>
                </a:solidFill>
                <a:latin typeface="Calibri"/>
              </a:rPr>
              <a:t>тежина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(kg)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, а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GA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 (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gestational age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)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је трудноћа у недељама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ECF 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у трудноћи</a:t>
            </a:r>
            <a:r>
              <a:rPr b="0" lang="en-US" sz="24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може се израчунати као 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d62"/>
                </a:solidFill>
                <a:latin typeface="Calibri"/>
              </a:rPr>
              <a:t>ECFp (l) = ECF (l) + 0.0187 x GA+ 0.0016 x GA</a:t>
            </a:r>
            <a:r>
              <a:rPr b="1" lang="en-US" sz="2400" spc="-1" strike="noStrike" baseline="30000">
                <a:solidFill>
                  <a:srgbClr val="003d62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где је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ECF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 укупна количина екстрацелуларне течности пре трудноће и може се проценити као 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ECF (l) = </a:t>
            </a:r>
            <a:r>
              <a:rPr b="1" lang="sr-RS" sz="2200" spc="-1" strike="noStrike">
                <a:solidFill>
                  <a:srgbClr val="003d62"/>
                </a:solidFill>
                <a:latin typeface="Calibri"/>
              </a:rPr>
              <a:t>тежина(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kg</a:t>
            </a:r>
            <a:r>
              <a:rPr b="1" lang="sr-RS" sz="2200" spc="-1" strike="noStrike">
                <a:solidFill>
                  <a:srgbClr val="003d62"/>
                </a:solidFill>
                <a:latin typeface="Calibri"/>
              </a:rPr>
              <a:t>)</a:t>
            </a:r>
            <a:r>
              <a:rPr b="1" lang="en-US" sz="2200" spc="-1" strike="noStrike" baseline="30000">
                <a:solidFill>
                  <a:srgbClr val="003d62"/>
                </a:solidFill>
                <a:latin typeface="Calibri"/>
              </a:rPr>
              <a:t>0.6469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 x </a:t>
            </a:r>
            <a:r>
              <a:rPr b="1" lang="sr-RS" sz="2200" spc="-1" strike="noStrike">
                <a:solidFill>
                  <a:srgbClr val="003d62"/>
                </a:solidFill>
                <a:latin typeface="Calibri"/>
              </a:rPr>
              <a:t>висина(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cm</a:t>
            </a:r>
            <a:r>
              <a:rPr b="1" lang="sr-RS" sz="2200" spc="-1" strike="noStrike">
                <a:solidFill>
                  <a:srgbClr val="003d62"/>
                </a:solidFill>
                <a:latin typeface="Calibri"/>
              </a:rPr>
              <a:t>)</a:t>
            </a:r>
            <a:r>
              <a:rPr b="1" lang="en-US" sz="2200" spc="-1" strike="noStrike" baseline="30000">
                <a:solidFill>
                  <a:srgbClr val="003d62"/>
                </a:solidFill>
                <a:latin typeface="Calibri"/>
              </a:rPr>
              <a:t>0.7236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 x 0.02154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ка у трудноћи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- дистрибуција -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000" y="1628640"/>
            <a:ext cx="8064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Волумен дистрибуције хидрофилних лекова у трудноћи 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може се проценити на основу вредности укупне количина екстрацелуларне течности 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(ECF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), укупна количина воде у организму (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TBW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) и с</a:t>
            </a:r>
            <a:r>
              <a:rPr b="0" lang="ru-RU" sz="2200" spc="-1" strike="noStrike">
                <a:solidFill>
                  <a:srgbClr val="003d62"/>
                </a:solidFill>
                <a:latin typeface="Calibri"/>
              </a:rPr>
              <a:t>лободне фракције лека у плазми* (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Fp</a:t>
            </a: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):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d62"/>
                </a:solidFill>
                <a:latin typeface="Calibri"/>
              </a:rPr>
              <a:t>Vd = ECF + Fp x (TBWp – ECF)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*у трудноћи се значајно мења само за лекове који се везују за албумин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3d62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003d62"/>
                </a:solidFill>
                <a:uFillTx/>
                <a:latin typeface="Calibri"/>
              </a:rPr>
              <a:t>Повећање масног ткива</a:t>
            </a:r>
            <a:r>
              <a:rPr b="0" lang="sr-RS" sz="2400" spc="-1" strike="noStrike">
                <a:solidFill>
                  <a:srgbClr val="003d62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Депозит додатног масног ткива скоро у потпуности се одвија у другом триместру и износи у просеку око 4</a:t>
            </a:r>
            <a:r>
              <a:rPr b="0" lang="en-US" sz="2200" spc="-1" strike="noStrike">
                <a:solidFill>
                  <a:srgbClr val="003d62"/>
                </a:solidFill>
                <a:latin typeface="Calibri"/>
              </a:rPr>
              <a:t>kg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у процесу учествује хормон лептин, који иначе регулише апетит и депоновање масти, а у трудноћи се лучи у плаценти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94800" y="30456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Фармакокинетика у трудноћи</a:t>
            </a:r>
            <a:br>
              <a:rPr sz="4000"/>
            </a:br>
            <a:r>
              <a:rPr b="0" lang="sr-RS" sz="4000" spc="-1" strike="noStrike">
                <a:solidFill>
                  <a:srgbClr val="006699"/>
                </a:solidFill>
                <a:latin typeface="Calibri"/>
              </a:rPr>
              <a:t>- дистрибуција -</a:t>
            </a:r>
            <a:endParaRPr b="0" lang="en-US" sz="40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4000" y="1628280"/>
            <a:ext cx="8064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3d62"/>
                </a:solidFill>
                <a:latin typeface="Calibri"/>
              </a:rPr>
              <a:t>Телесна маса без масног ткива* у трудноћи може се израчунати на основу 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200" spc="-1" strike="noStrike">
                <a:solidFill>
                  <a:srgbClr val="003d62"/>
                </a:solidFill>
                <a:latin typeface="Calibri"/>
              </a:rPr>
              <a:t>TFFM</a:t>
            </a:r>
            <a:r>
              <a:rPr b="1" lang="sr-RS" sz="2200" spc="-1" strike="noStrike">
                <a:solidFill>
                  <a:srgbClr val="003d62"/>
                </a:solidFill>
                <a:latin typeface="Calibri"/>
              </a:rPr>
              <a:t>р</a:t>
            </a:r>
            <a:r>
              <a:rPr b="1" lang="nb-NO" sz="2200" spc="-1" strike="noStrike">
                <a:solidFill>
                  <a:srgbClr val="003d62"/>
                </a:solidFill>
                <a:latin typeface="Calibri"/>
              </a:rPr>
              <a:t>= TFFM - 0.0474 </a:t>
            </a:r>
            <a:r>
              <a:rPr b="1" lang="en-US" sz="2200" spc="-1" strike="noStrike">
                <a:solidFill>
                  <a:srgbClr val="003d62"/>
                </a:solidFill>
                <a:latin typeface="Calibri"/>
              </a:rPr>
              <a:t>x </a:t>
            </a:r>
            <a:r>
              <a:rPr b="1" lang="nb-NO" sz="2200" spc="-1" strike="noStrike">
                <a:solidFill>
                  <a:srgbClr val="003d62"/>
                </a:solidFill>
                <a:latin typeface="Calibri"/>
              </a:rPr>
              <a:t>GA+ 0.0034 x GA</a:t>
            </a:r>
            <a:r>
              <a:rPr b="1" lang="nb-NO" sz="2200" spc="-1" strike="noStrike" baseline="30000">
                <a:solidFill>
                  <a:srgbClr val="003d62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003d62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где је </a:t>
            </a:r>
            <a:r>
              <a:rPr b="0" lang="nb-NO" sz="2000" spc="-1" strike="noStrike">
                <a:solidFill>
                  <a:srgbClr val="003d62"/>
                </a:solidFill>
                <a:latin typeface="Calibri"/>
              </a:rPr>
              <a:t>TFFM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 телесна маса без масног ткива код жена пре трудноће и израчунава се као </a:t>
            </a:r>
            <a:r>
              <a:rPr b="1" lang="pl-PL" sz="2000" spc="-1" strike="noStrike">
                <a:solidFill>
                  <a:srgbClr val="003d62"/>
                </a:solidFill>
                <a:latin typeface="Calibri"/>
              </a:rPr>
              <a:t>(9270 x TBW) / (8780 + 244 x BMI)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, 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а 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GA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 (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gestational age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)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је трудноћа у недељама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3d62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BMI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 је индекс телесне масе (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Body Mass Index) </a:t>
            </a: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који се израчунава као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3d62"/>
                </a:solidFill>
                <a:latin typeface="Calibri"/>
              </a:rPr>
              <a:t>тежина</a:t>
            </a:r>
            <a:r>
              <a:rPr b="1" lang="en-US" sz="2000" spc="-1" strike="noStrike">
                <a:solidFill>
                  <a:srgbClr val="003d62"/>
                </a:solidFill>
                <a:latin typeface="Calibri"/>
              </a:rPr>
              <a:t>(kg)</a:t>
            </a:r>
            <a:r>
              <a:rPr b="0" lang="en-US" sz="2000" spc="-1" strike="noStrike">
                <a:solidFill>
                  <a:srgbClr val="003d62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3d62"/>
                </a:solidFill>
                <a:latin typeface="Calibri"/>
              </a:rPr>
              <a:t>/</a:t>
            </a:r>
            <a:r>
              <a:rPr b="1" lang="sr-RS" sz="2000" spc="-1" strike="noStrike">
                <a:solidFill>
                  <a:srgbClr val="003d62"/>
                </a:solidFill>
                <a:latin typeface="Calibri"/>
              </a:rPr>
              <a:t> (висина(</a:t>
            </a:r>
            <a:r>
              <a:rPr b="1" lang="en-US" sz="2000" spc="-1" strike="noStrike">
                <a:solidFill>
                  <a:srgbClr val="003d62"/>
                </a:solidFill>
                <a:latin typeface="Calibri"/>
              </a:rPr>
              <a:t>m</a:t>
            </a:r>
            <a:r>
              <a:rPr b="1" lang="sr-RS" sz="2000" spc="-1" strike="noStrike">
                <a:solidFill>
                  <a:srgbClr val="003d62"/>
                </a:solidFill>
                <a:latin typeface="Calibri"/>
              </a:rPr>
              <a:t>))</a:t>
            </a:r>
            <a:r>
              <a:rPr b="0" lang="en-US" sz="2000" spc="-1" strike="noStrike" baseline="30000">
                <a:solidFill>
                  <a:srgbClr val="003d62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1abcb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3d62"/>
                </a:solidFill>
                <a:latin typeface="Calibri"/>
              </a:rPr>
              <a:t>* од значаја је за дозирање лекова који су хидрофилни, утицај повећања масног ткива на дистибуцију липофилних лекова у трудноћи још увек није довољно познат</a:t>
            </a: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14:03:03Z</dcterms:created>
  <dc:creator>Judy</dc:creator>
  <dc:description/>
  <dc:language>en-US</dc:language>
  <cp:lastModifiedBy>User</cp:lastModifiedBy>
  <dcterms:modified xsi:type="dcterms:W3CDTF">2020-09-26T17:31:28Z</dcterms:modified>
  <cp:revision>560</cp:revision>
  <dc:subject/>
  <dc:title>Fluid &amp; Electrolytes Management</dc:title>
</cp:coreProperties>
</file>